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21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4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939338" cy="6804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C3FE-432C-4580-8B62-156C18D6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2B9C-5E1B-40E9-8FAF-771BD655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EF59-CD84-42FF-8010-58946ECD1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9A94-A05C-4A90-B023-3DF9CDD4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575D-8674-4796-8601-34F01889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BA76-9AA4-4ECD-B595-75DD0B1D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CF16-1ECC-4260-8E73-84A753AC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3BDD-9798-40AF-A4B0-94B097A4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529E-F3B8-4803-A5DD-3EC37AD8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1C81-285B-4D59-9745-E4787CE8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D75B-0359-4E9A-B928-92B9E664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7413-291A-4C1E-8299-F0818597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3411-22C8-4884-A041-54380D8AC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8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289680" y="3213000"/>
            <a:ext cx="24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ler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987640" y="765000"/>
            <a:ext cx="288936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80880" y="446040"/>
            <a:ext cx="8382240" cy="5907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1225440" cy="834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3"/>
          <a:stretch/>
        </p:blipFill>
        <p:spPr>
          <a:xfrm>
            <a:off x="2700360" y="1509840"/>
            <a:ext cx="1079640" cy="734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4"/>
          <a:stretch/>
        </p:blipFill>
        <p:spPr>
          <a:xfrm>
            <a:off x="2771640" y="4341960"/>
            <a:ext cx="863640" cy="587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5"/>
          <a:stretch/>
        </p:blipFill>
        <p:spPr>
          <a:xfrm>
            <a:off x="6227640" y="4869000"/>
            <a:ext cx="574920" cy="390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6"/>
          <a:stretch/>
        </p:blipFill>
        <p:spPr>
          <a:xfrm>
            <a:off x="6213600" y="2558880"/>
            <a:ext cx="587160" cy="398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7"/>
          <a:stretch/>
        </p:blipFill>
        <p:spPr>
          <a:xfrm>
            <a:off x="4633920" y="2065320"/>
            <a:ext cx="79200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100240" y="0"/>
            <a:ext cx="483408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3606840" y="1370160"/>
            <a:ext cx="1152360" cy="784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3"/>
          <a:stretch/>
        </p:blipFill>
        <p:spPr>
          <a:xfrm>
            <a:off x="2195640" y="189000"/>
            <a:ext cx="936360" cy="637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4"/>
          <a:stretch/>
        </p:blipFill>
        <p:spPr>
          <a:xfrm rot="21223200">
            <a:off x="3773160" y="4546440"/>
            <a:ext cx="1224000" cy="8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2100240" y="0"/>
            <a:ext cx="483408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2"/>
          <a:stretch/>
        </p:blipFill>
        <p:spPr>
          <a:xfrm>
            <a:off x="2124000" y="189000"/>
            <a:ext cx="935280" cy="635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3"/>
          <a:stretch/>
        </p:blipFill>
        <p:spPr>
          <a:xfrm>
            <a:off x="3348000" y="1628640"/>
            <a:ext cx="1584360" cy="1076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4"/>
          <a:stretch/>
        </p:blipFill>
        <p:spPr>
          <a:xfrm>
            <a:off x="3995640" y="4869000"/>
            <a:ext cx="93672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4202280" y="0"/>
            <a:ext cx="483372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179280" y="2205000"/>
            <a:ext cx="3816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ป้ายทะเบียน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(registration pl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รายละเอียด</a:t>
            </a:r>
            <a:r>
              <a:rPr b="0" lang="en-US" sz="2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สี และรูปแบบตรงตามที่กำหน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ติดที่ด้านหน้าและหลังของรถยนต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4356000" y="260280"/>
            <a:ext cx="936720" cy="636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6084720" y="1341360"/>
            <a:ext cx="1152720" cy="782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4"/>
          <a:stretch/>
        </p:blipFill>
        <p:spPr>
          <a:xfrm>
            <a:off x="6012000" y="2743200"/>
            <a:ext cx="1152360" cy="782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5"/>
          <a:stretch/>
        </p:blipFill>
        <p:spPr>
          <a:xfrm>
            <a:off x="6012000" y="4183200"/>
            <a:ext cx="1152360" cy="782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6"/>
          <a:stretch/>
        </p:blipFill>
        <p:spPr>
          <a:xfrm>
            <a:off x="6012000" y="5613480"/>
            <a:ext cx="115236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0" y="0"/>
            <a:ext cx="5943600" cy="458640"/>
          </a:xfrm>
          <a:prstGeom prst="rect">
            <a:avLst/>
          </a:prstGeom>
          <a:solidFill>
            <a:srgbClr val="ff99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76320" y="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rial"/>
                <a:cs typeface="FreesiaUPC"/>
              </a:rPr>
              <a:t>หัวข้อด้านรถยนต์มือสองที่กระทบกับกฎหมา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523800" y="690480"/>
            <a:ext cx="1744560" cy="37944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64040" y="685800"/>
            <a:ext cx="148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Cordia New"/>
                <a:cs typeface="Cordia New"/>
              </a:rPr>
              <a:t>วัตถุประสงค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549360" y="2349360"/>
            <a:ext cx="4567320" cy="38448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663480" y="234468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Cordia New"/>
                <a:cs typeface="Cordia New"/>
              </a:rPr>
              <a:t>ขอบเขตในส่วนของด้านรถยนต์มือสอ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892080" y="1063800"/>
            <a:ext cx="74898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1.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ป้องกันผลกระทบจากกฎหมายคุ้มครองผู้บริโภคแก่ผู้แทนจำหน่ายทั่วประเท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dia New"/>
                <a:ea typeface="MS PGothic"/>
              </a:rPr>
              <a:t>2.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ดูแลปัญหาที่ส่งผลกระทบต่อลูกค้าร้องเรียนในส่วนของผู้แทนจำหน่า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3.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ป้องกันปัญหาลูกค้าร้องเรียนที่เกิดจากเรียกร้องสิทธิการคุ้มครองผู้บริโภ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4.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ป้องกันความเสี่ยงจากการแพ้คดี ทางผู้แทนจำหน่าย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2"/>
          <p:cNvSpPr/>
          <p:nvPr/>
        </p:nvSpPr>
        <p:spPr>
          <a:xfrm>
            <a:off x="663480" y="2741760"/>
            <a:ext cx="7489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อ้างถึง ประกาศคณะกรรมการว่าด้วยฉลาก ฉบับที่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24 (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พ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.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ศ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.2550) 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เรื่อง ให้รถยนต์ใช้แล้วเป็นสินค้าที่ควบคุมฉลาก </a:t>
            </a:r>
            <a:r>
              <a:rPr b="1" lang="th-TH" sz="1800" spc="-1" strike="noStrike" u="sng">
                <a:solidFill>
                  <a:srgbClr val="000000"/>
                </a:solidFill>
                <a:uFillTx/>
                <a:latin typeface="Cordia New"/>
                <a:cs typeface="FreesiaUPC"/>
              </a:rPr>
              <a:t>บังคับใช้  </a:t>
            </a:r>
            <a:r>
              <a:rPr b="1" lang="th-TH" sz="1800" spc="-1" strike="noStrike" u="sng">
                <a:solidFill>
                  <a:srgbClr val="000000"/>
                </a:solidFill>
                <a:uFillTx/>
                <a:latin typeface="Cordia New"/>
                <a:ea typeface="FreesiaUPC"/>
              </a:rPr>
              <a:t>30 </a:t>
            </a:r>
            <a:r>
              <a:rPr b="1" lang="th-TH" sz="1800" spc="-1" strike="noStrike" u="sng">
                <a:solidFill>
                  <a:srgbClr val="000000"/>
                </a:solidFill>
                <a:uFillTx/>
                <a:latin typeface="Cordia New"/>
                <a:cs typeface="FreesiaUPC"/>
              </a:rPr>
              <a:t>สิงหาคคม </a:t>
            </a:r>
            <a:r>
              <a:rPr b="1" lang="th-TH" sz="1800" spc="-1" strike="noStrike" u="sng">
                <a:solidFill>
                  <a:srgbClr val="000000"/>
                </a:solidFill>
                <a:uFillTx/>
                <a:latin typeface="Cordia New"/>
                <a:ea typeface="FreesiaUPC"/>
              </a:rPr>
              <a:t>2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2"/>
          <p:cNvSpPr/>
          <p:nvPr/>
        </p:nvSpPr>
        <p:spPr>
          <a:xfrm>
            <a:off x="511200" y="4952880"/>
            <a:ext cx="748980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“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รถยนต์ใช้แล้ว”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หมายความว่า รถยนต์ที่นั่งส่วนบุคคลไมเกิน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7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คน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,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รถยนต์นั่งส่วน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บุคคลเกิน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7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คน แต่ไม่เกิน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12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คน และรถยนต์บรรทุกส่วนบุคคลที่ม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    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น้ำหนักรถไม่เกิน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1,600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กิโลกรัม ซึ่งมิได้ใช้ประกอบการขนส่งเพื่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    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สินจ้างตามกฎหมายว่าด้วยการขนส่งทางบกที่ได้จดทะเบียนตาม พรบ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    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รถยนต์พ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.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ศ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.2522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แล้ว ซึ่งผู้ประกอบธุรกิจมีไว้เพื่อจำหน่า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2"/>
          <p:cNvSpPr/>
          <p:nvPr/>
        </p:nvSpPr>
        <p:spPr>
          <a:xfrm>
            <a:off x="511200" y="3422520"/>
            <a:ext cx="672768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“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ธุรกิจการขายรถยนต์ใช้แล้ว”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หมายความว่า การประกอบธุรกิจการค้าโดยผู้ประกอ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      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ธุรกิจนำรถยนต์ใช้แล้ว ออกขาย แลกเปลี่ยน หรือจำหน่ายโดยประกา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      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อื่นอย่างทรัพย์ที่ใช้แล้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2"/>
          <p:cNvSpPr/>
          <p:nvPr/>
        </p:nvSpPr>
        <p:spPr>
          <a:xfrm>
            <a:off x="380880" y="4343400"/>
            <a:ext cx="74898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“</a:t>
            </a:r>
            <a:r>
              <a:rPr b="1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ผู้ประกอบธุรกิจ”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หมายความว่า ผู้ประกอบธุรกิจขายรถยนต์ใช้แล้วซึ่งไม่รวมถึงกา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FreesiaUPC"/>
              </a:rPr>
              <a:t>     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FreesiaUPC"/>
              </a:rPr>
              <a:t>ซื้อขายโดยทำธุรกรรมทางอิเลกทรอนิกส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rcRect l="14375" t="8594" r="12500" b="65628"/>
          <a:stretch/>
        </p:blipFill>
        <p:spPr>
          <a:xfrm>
            <a:off x="109440" y="1828800"/>
            <a:ext cx="8915400" cy="2514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rcRect l="14375" t="72660" r="12500" b="7032"/>
          <a:stretch/>
        </p:blipFill>
        <p:spPr>
          <a:xfrm>
            <a:off x="109440" y="4114800"/>
            <a:ext cx="8915400" cy="1981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2"/>
          <p:cNvSpPr/>
          <p:nvPr/>
        </p:nvSpPr>
        <p:spPr>
          <a:xfrm>
            <a:off x="304920" y="304920"/>
            <a:ext cx="83818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1" lang="th-TH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ฉลากของสินค้าที่ควบคุม”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หมายความว่า ให้ระบุข้อมูลด้วยตัวอักษรขนาดไม่ต่ำกว่า 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ซม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 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กี่ยวกับรถยนต์ใช้แล้ว ตามที่ปรากฎในรายการจดทะเบียนตามกฎหมายว่าด้วยรถยนต์ ตั้งแต่วันจดทะเบียนจนถึงวันที่จำหน่าย 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ดังต่อไปนี้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iD1_AW"/>
          <p:cNvPicPr/>
          <p:nvPr/>
        </p:nvPicPr>
        <p:blipFill>
          <a:blip r:embed="rId1"/>
          <a:stretch/>
        </p:blipFill>
        <p:spPr>
          <a:xfrm>
            <a:off x="0" y="0"/>
            <a:ext cx="9144000" cy="64674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4010040" y="914400"/>
            <a:ext cx="21337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poA"/>
              </a:rPr>
              <a:t>รายละเอียดรถยนต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609480" y="914400"/>
            <a:ext cx="17528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poA"/>
              </a:rPr>
              <a:t>ข้อมูลเชิงเทคนิ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4253040" y="1371600"/>
            <a:ext cx="1523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ยี่ห้อรถ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/</a:t>
            </a: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รุ่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ลขตัวรถ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ลขเครื่องยนต์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สี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วันจดทะเบีย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 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ลขทะเบีย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ประเภทของรถ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CBU/CKD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 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ลำดับเจ้าของรถ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152280" y="3200400"/>
            <a:ext cx="1981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-295200" y="1324080"/>
            <a:ext cx="2124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ยี่ห้อเครื่องยนต์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ชนิดเชื้อเพลิง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ปริมาตรกระบอกสูบ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cc) 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แรงบิดสูงสุด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Nm) 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แรงม้าสูงสุด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hp) :</a:t>
            </a:r>
            <a:br>
              <a:rPr sz="14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ความเร็วสูงสุด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km/hr)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80880" y="3733920"/>
            <a:ext cx="2133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 u="sng">
                <a:solidFill>
                  <a:srgbClr val="000000"/>
                </a:solidFill>
                <a:uFillTx/>
                <a:latin typeface="CorpoA"/>
              </a:rPr>
              <a:t>ราคา</a:t>
            </a:r>
            <a:r>
              <a:rPr b="1" lang="th-TH" sz="2000" spc="-1" strike="noStrike">
                <a:solidFill>
                  <a:srgbClr val="000000"/>
                </a:solidFill>
                <a:latin typeface="Corpo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rpo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85680" y="4419720"/>
            <a:ext cx="174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แคมเปญ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งินดาวน์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ค่างวดต่อเดือ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4072320" y="4378320"/>
            <a:ext cx="456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ภาระผูกพันของรถยนต์ที่มีอยู่ในวันจำจำหน่าย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ถ้าม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: 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33" descr=""/>
          <p:cNvPicPr/>
          <p:nvPr/>
        </p:nvPicPr>
        <p:blipFill>
          <a:blip r:embed="rId2"/>
          <a:stretch/>
        </p:blipFill>
        <p:spPr>
          <a:xfrm>
            <a:off x="152280" y="44280"/>
            <a:ext cx="1447920" cy="9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iD1_AW"/>
          <p:cNvPicPr/>
          <p:nvPr/>
        </p:nvPicPr>
        <p:blipFill>
          <a:blip r:embed="rId1"/>
          <a:stretch/>
        </p:blipFill>
        <p:spPr>
          <a:xfrm>
            <a:off x="0" y="0"/>
            <a:ext cx="9144000" cy="64674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04920" y="5486400"/>
            <a:ext cx="5562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poA"/>
              </a:rPr>
              <a:t>C 200</a:t>
            </a:r>
            <a:r>
              <a:rPr b="0" lang="th-TH" sz="3200" spc="-1" strike="noStrike">
                <a:solidFill>
                  <a:srgbClr val="000000"/>
                </a:solidFill>
                <a:latin typeface="Corpo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poA"/>
              </a:rPr>
              <a:t>Blue 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4010040" y="914400"/>
            <a:ext cx="21337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poA"/>
              </a:rPr>
              <a:t>รายละเอียดรถยนต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609480" y="914400"/>
            <a:ext cx="17528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CorpoA"/>
              </a:rPr>
              <a:t>ข้อมูลเชิงเทคนิ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4253040" y="1371600"/>
            <a:ext cx="1523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ยี่ห้อรถ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/</a:t>
            </a: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รุ่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ลขตัวรถ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ลขเครื่องยนต์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สี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วันจดทะเบีย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 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ลขทะเบีย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ประเภทของรถ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CBU/CKD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 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ลำดับเจ้าของรถ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152280" y="3200400"/>
            <a:ext cx="1981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-295200" y="1324080"/>
            <a:ext cx="2124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ยี่ห้อเครื่องยนต์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ชนิดเชื้อเพลิง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ปริมาตรกระบอกสูบ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cc) 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แรงบิดสูงสุด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Nm) 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แรงม้าสูงสุด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hp) :</a:t>
            </a:r>
            <a:br>
              <a:rPr sz="14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ความเร็วสูงสุด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rpoSLig"/>
              </a:rPr>
              <a:t>(km/hr)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380880" y="3733920"/>
            <a:ext cx="2133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 u="sng">
                <a:solidFill>
                  <a:srgbClr val="000000"/>
                </a:solidFill>
                <a:uFillTx/>
                <a:latin typeface="CorpoA"/>
              </a:rPr>
              <a:t>ราคา</a:t>
            </a:r>
            <a:r>
              <a:rPr b="1" lang="th-TH" sz="2000" spc="-1" strike="noStrike">
                <a:solidFill>
                  <a:srgbClr val="000000"/>
                </a:solidFill>
                <a:latin typeface="Corpo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rpo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85680" y="4419720"/>
            <a:ext cx="174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แคมเปญ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เงินดาวน์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r>
              <a:rPr b="0" lang="th-TH" sz="1600" spc="-1" strike="noStrike">
                <a:solidFill>
                  <a:srgbClr val="000000"/>
                </a:solidFill>
                <a:latin typeface="CorpoSLig"/>
              </a:rPr>
              <a:t>ค่างวดต่อเดือน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poSLig"/>
              </a:rPr>
              <a:t>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4072320" y="4378320"/>
            <a:ext cx="456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ภาระผูกพันของรถยนต์ที่มีอยู่ในวันจำจำหน่าย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ถ้าม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: 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1774800" y="1476360"/>
            <a:ext cx="256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Mercedes-Benz/M2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8"/>
          <p:cNvSpPr/>
          <p:nvPr/>
        </p:nvSpPr>
        <p:spPr>
          <a:xfrm>
            <a:off x="5791320" y="138276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MB/C200 BlueEFFICI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1774800" y="1733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1"/>
          <p:cNvSpPr/>
          <p:nvPr/>
        </p:nvSpPr>
        <p:spPr>
          <a:xfrm>
            <a:off x="5791320" y="172728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204048 6L 0479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2"/>
          <p:cNvSpPr/>
          <p:nvPr/>
        </p:nvSpPr>
        <p:spPr>
          <a:xfrm>
            <a:off x="1774800" y="211464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1,7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4"/>
          <p:cNvSpPr/>
          <p:nvPr/>
        </p:nvSpPr>
        <p:spPr>
          <a:xfrm>
            <a:off x="5791320" y="20509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271860 30 223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5810400" y="24321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เงิ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1766880" y="2784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184/5,2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0"/>
          <p:cNvSpPr/>
          <p:nvPr/>
        </p:nvSpPr>
        <p:spPr>
          <a:xfrm>
            <a:off x="5791320" y="2727360"/>
            <a:ext cx="99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rpoS"/>
              </a:rPr>
              <a:t>1 </a:t>
            </a:r>
            <a:r>
              <a:rPr b="0" lang="th-TH" sz="2000" spc="-1" strike="noStrike">
                <a:solidFill>
                  <a:srgbClr val="000000"/>
                </a:solidFill>
                <a:latin typeface="CorpoS"/>
              </a:rPr>
              <a:t>ม</a:t>
            </a:r>
            <a:r>
              <a:rPr b="0" lang="th-TH" sz="2000" spc="-1" strike="noStrike">
                <a:solidFill>
                  <a:srgbClr val="000000"/>
                </a:solidFill>
                <a:latin typeface="CorpoS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CorpoS"/>
              </a:rPr>
              <a:t>ค</a:t>
            </a:r>
            <a:r>
              <a:rPr b="0" lang="th-TH" sz="2000" spc="-1" strike="noStrike">
                <a:solidFill>
                  <a:srgbClr val="000000"/>
                </a:solidFill>
                <a:latin typeface="CorpoS"/>
              </a:rPr>
              <a:t>. 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1"/>
          <p:cNvSpPr/>
          <p:nvPr/>
        </p:nvSpPr>
        <p:spPr>
          <a:xfrm>
            <a:off x="1774800" y="30672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2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3"/>
          <p:cNvSpPr/>
          <p:nvPr/>
        </p:nvSpPr>
        <p:spPr>
          <a:xfrm>
            <a:off x="5800680" y="305100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มบ </a:t>
            </a: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69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6"/>
          <p:cNvSpPr/>
          <p:nvPr/>
        </p:nvSpPr>
        <p:spPr>
          <a:xfrm>
            <a:off x="5791320" y="329076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รถยนต์นั่งส่วนบุคคลไม่เกิน</a:t>
            </a: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7</a:t>
            </a: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ค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47"/>
          <p:cNvSpPr/>
          <p:nvPr/>
        </p:nvSpPr>
        <p:spPr>
          <a:xfrm>
            <a:off x="990720" y="376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poA"/>
              </a:rPr>
              <a:t>1,850,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9"/>
          <p:cNvSpPr/>
          <p:nvPr/>
        </p:nvSpPr>
        <p:spPr>
          <a:xfrm>
            <a:off x="5791320" y="36972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CK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5"/>
          <p:cNvSpPr/>
          <p:nvPr/>
        </p:nvSpPr>
        <p:spPr>
          <a:xfrm>
            <a:off x="1774800" y="24210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270/1,800-4,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56"/>
          <p:cNvSpPr/>
          <p:nvPr/>
        </p:nvSpPr>
        <p:spPr>
          <a:xfrm>
            <a:off x="1808280" y="1793880"/>
            <a:ext cx="89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เบนซิ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0"/>
          <p:cNvSpPr/>
          <p:nvPr/>
        </p:nvSpPr>
        <p:spPr>
          <a:xfrm>
            <a:off x="5800680" y="39258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1. </a:t>
            </a: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สมชาย สิริประภ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1"/>
          <p:cNvSpPr/>
          <p:nvPr/>
        </p:nvSpPr>
        <p:spPr>
          <a:xfrm>
            <a:off x="1752480" y="4676760"/>
            <a:ext cx="1143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20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2"/>
          <p:cNvSpPr/>
          <p:nvPr/>
        </p:nvSpPr>
        <p:spPr>
          <a:xfrm>
            <a:off x="1752480" y="4981680"/>
            <a:ext cx="1057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poA"/>
              </a:rPr>
              <a:t>19,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4"/>
          <p:cNvSpPr/>
          <p:nvPr/>
        </p:nvSpPr>
        <p:spPr>
          <a:xfrm>
            <a:off x="1774800" y="4343400"/>
            <a:ext cx="134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Corpo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65" descr=""/>
          <p:cNvPicPr/>
          <p:nvPr/>
        </p:nvPicPr>
        <p:blipFill>
          <a:blip r:embed="rId2"/>
          <a:stretch/>
        </p:blipFill>
        <p:spPr>
          <a:xfrm>
            <a:off x="152280" y="44280"/>
            <a:ext cx="1447920" cy="9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620640"/>
            <a:ext cx="882000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) New Dealer Standard  :  Used Car  ( Basic Bonus 0.45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1)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1.1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venExclusivity vehicles must have been sold by Mercedes-benz authorized dealer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1.2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rovenExclusivity vehicles have to sell with warranty and star assist at least 1 yea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1.3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monstration car which are allowed for sell  must be input and sell via website:www.BenzProven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2)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2.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ock and retail report will be automatically report by website.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ncel  retail report by e-mail or fa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2.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venExclusivity vehicles will be randomly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ecked at showroom.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2.3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ProvenExclusivity vehicles area display and POS must follow stand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</a:rPr>
              <a:t>1.2.4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   Trade-in prospect report  must be submitted every end month .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within 7 day after end mont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3)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3.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PE responsible person can be the same as sales manager or one in sale team</a:t>
            </a:r>
            <a:r>
              <a:rPr b="0" lang="en-US" sz="1400" spc="-1" strike="noStrike">
                <a:solidFill>
                  <a:srgbClr val="000000"/>
                </a:solidFill>
                <a:latin typeface="CorpoS"/>
                <a:ea typeface="PMingLiU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poS"/>
                <a:ea typeface="PMingLiU"/>
              </a:rPr>
              <a:t>         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ust be register responsible person in website and Organization char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4) Document and Lice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4.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ce tag and Receipt form must be follow ProvenExclusivity standa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</a:rPr>
              <a:t>1.4.2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aler must be get used car sell licen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117000" y="96840"/>
            <a:ext cx="15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0" y="620640"/>
            <a:ext cx="9252000" cy="71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) New Dealer Standard  :  Used Car  ( Basic Bonus 0.45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1.1) 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สินค้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1.1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รถยนต์ในโครงการ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enExclusivity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ต้องเป็นรถที่จำหน่ายโดยผู้แทนจำหน่ายเมอร์เซเดสเบนซ์อย่างเป็นทางการเท่านั้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1.2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รถยนต์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enExclusiv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ต้องจำหน่ายพร้อม การรับประกันคุณภาพแล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r assist 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อย่างน้อย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ปีเต็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1.3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รถยนต์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o car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ที่ครบกำหนดอายุขาย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ถือเป็นรถยนต์ใช้แล้วต้องทำการบันทึกและจำหน่ายผ่านทาง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site:www.BenzProven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1.2) 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กระบวนการทำง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ail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ort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จะถูกตรวจสอบผ่านทาง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site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โดยอัตโนมัต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ยกเลิกการ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ort Stock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ผ่านทางเอกสาร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1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เดิ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2.2 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รถยนต์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enExclusivity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จะถูกสุ่มตรวจที่โชว์รู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ทุกสิ้นเดือ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2.3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การจัดแสดงรถ เช่น พื้นที่จัดแสดง และเครื่องมือการตลาด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กล่องไฟ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แผ่นป้ายทะเบียน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ใบราคารถยนต์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ต้องได้ตามมาตรฐา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enExclus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gsana New"/>
              </a:rPr>
              <a:t>                </a:t>
            </a:r>
            <a:r>
              <a:rPr b="0" lang="en-US" sz="1800" spc="-1" strike="noStrike">
                <a:solidFill>
                  <a:srgbClr val="3333cc"/>
                </a:solidFill>
                <a:latin typeface="Angsana New"/>
              </a:rPr>
              <a:t>1.2.4</a:t>
            </a:r>
            <a:r>
              <a:rPr b="0" lang="en-US" sz="1400" spc="-1" strike="noStrike">
                <a:solidFill>
                  <a:srgbClr val="3333cc"/>
                </a:solidFill>
                <a:latin typeface="Angsana New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de-in Prospect 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Report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</a:rPr>
              <a:t>ผู้แทนจำหน่าย</a:t>
            </a:r>
            <a:r>
              <a:rPr b="0" lang="th-TH" sz="1600" spc="-1" strike="noStrike">
                <a:solidFill>
                  <a:srgbClr val="3333cc"/>
                </a:solidFill>
                <a:latin typeface="Times New Roman"/>
              </a:rPr>
              <a:t>จะต้องส่งรายงานผ่านทาง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Email </a:t>
            </a:r>
            <a:r>
              <a:rPr b="0" lang="th-TH" sz="1600" spc="-1" strike="noStrike">
                <a:solidFill>
                  <a:srgbClr val="3333cc"/>
                </a:solidFill>
                <a:latin typeface="Times New Roman"/>
              </a:rPr>
              <a:t>ทุกสิ้นเดือน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th-TH" sz="1600" spc="-1" strike="noStrike">
                <a:solidFill>
                  <a:srgbClr val="3333cc"/>
                </a:solidFill>
                <a:latin typeface="Times New Roman"/>
              </a:rPr>
              <a:t>โดยใช้แบบฟอรม์ที่ทาง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MBTH</a:t>
            </a:r>
            <a:r>
              <a:rPr b="0" lang="th-TH" sz="1600" spc="-1" strike="noStrike">
                <a:solidFill>
                  <a:srgbClr val="3333cc"/>
                </a:solidFill>
                <a:latin typeface="Times New Roman"/>
              </a:rPr>
              <a:t>จัดเตรียมไว้ให้ภายใน</a:t>
            </a:r>
            <a:r>
              <a:rPr b="0" lang="th-TH" sz="16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0" lang="th-TH" sz="1600" spc="-1" strike="noStrike">
                <a:solidFill>
                  <a:srgbClr val="3333cc"/>
                </a:solidFill>
                <a:latin typeface="Times New Roman"/>
              </a:rPr>
              <a:t>วันหลังจากสิ้นเดือน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1.3) 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บุคลาก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3.1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ผู้ทำหน้าที่รับผิดชอบธุรกิจรถมือสอง สามารถเป็นคนเดียวกับผู้จัดการฝ่ายขายรถใหม่  หรือพนักงานในฝ่ายขายเท่านั้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โดยทำการบันทึกชื่อพนักงานที่รับผิดชอบลงในเวบไซด์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</a:rPr>
              <a:t>แล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ganization cha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1.4) </a:t>
            </a:r>
            <a:r>
              <a:rPr b="1" lang="th-TH" sz="1800" spc="-1" strike="noStrike">
                <a:solidFill>
                  <a:srgbClr val="ff0000"/>
                </a:solidFill>
                <a:latin typeface="Times New Roman"/>
              </a:rPr>
              <a:t>งานเอกสารและใบอนุญา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4.1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ป้ายราคาและใบเสร็จรับเงินถูกต้องตามมาตรฐา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1.4.2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ผู้แทนจำหน่ายจำเป็นต้องขอใบอนุญาตค้าของเก่า ให้ถูกต้อ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-284400" y="68400"/>
            <a:ext cx="23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 u="sng">
                <a:solidFill>
                  <a:srgbClr val="000000"/>
                </a:solidFill>
                <a:uFillTx/>
                <a:latin typeface="Times New Roman"/>
              </a:rPr>
              <a:t>สรุปสาระสำคั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79280" y="623160"/>
            <a:ext cx="828036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ven Exclusivity Standard : Certified Pre-owned Mercedes-Benz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1.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Vehicle have to Sell with 1 Warranty or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 20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,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000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km.</a:t>
            </a:r>
            <a:r>
              <a:rPr b="0" lang="de-DE" sz="1600" spc="-1" strike="noStrike">
                <a:solidFill>
                  <a:srgbClr val="ff3300"/>
                </a:solidFill>
                <a:latin typeface="Arial"/>
                <a:ea typeface="Arial"/>
              </a:rPr>
              <a:t>(whichever come first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.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   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*Maximum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 2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years or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  40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,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000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km is an o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2.</a:t>
            </a: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Vehicle have to Sell with 24 Hr. Road side assi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Arial"/>
                <a:ea typeface="Arial"/>
              </a:rPr>
              <a:t>   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*Mercedes-Benz Star Assi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ehicle have to pass criteria of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-Point Vehicle Check conform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rcedes-Benz stand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Arial"/>
              </a:rPr>
              <a:t> The vehicles has no major accid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ge of vehicle must be less than 8 years and mileage is not  exceed 150,000 k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ge of vehicle must be less than 8 years count form registration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Arial"/>
              </a:rPr>
              <a:t>No change mileag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and mileage less than 150,000 km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PMingLiU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MS PGothic"/>
              </a:rPr>
              <a:t>Vehicles in ProvenExclusivity program must have been sold by Mercedes-benz authorized dealer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V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  <a:ea typeface="Arial"/>
              </a:rPr>
              <a:t>ehicles must be in good condition, cleanliness, start promptly with out displaying any malfunct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  <a:ea typeface="Arial"/>
              </a:rPr>
              <a:t>at least half tank of fu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MS PGothic"/>
              </a:rPr>
              <a:t>V</a:t>
            </a:r>
            <a:r>
              <a:rPr b="0" lang="th-TH" sz="1400" spc="-1" strike="noStrike">
                <a:solidFill>
                  <a:srgbClr val="ff3300"/>
                </a:solidFill>
                <a:latin typeface="Arial"/>
                <a:ea typeface="Arial"/>
              </a:rPr>
              <a:t>ehicles are presented with 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MS PGothic"/>
              </a:rPr>
              <a:t>PE</a:t>
            </a:r>
            <a:r>
              <a:rPr b="0" lang="th-TH" sz="1400" spc="-1" strike="noStrike">
                <a:solidFill>
                  <a:srgbClr val="ff3300"/>
                </a:solidFill>
                <a:latin typeface="Arial"/>
                <a:ea typeface="Arial"/>
              </a:rPr>
              <a:t> CI-conform ,clearly visible price tag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MS PGothic"/>
              </a:rPr>
              <a:t>, Recipt</a:t>
            </a:r>
            <a:r>
              <a:rPr b="0" lang="th-TH" sz="1400" spc="-1" strike="noStrike">
                <a:solidFill>
                  <a:srgbClr val="ff3300"/>
                </a:solidFill>
                <a:latin typeface="Arial"/>
                <a:ea typeface="Arial"/>
              </a:rPr>
              <a:t> &amp; registration pl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7667640" y="0"/>
            <a:ext cx="132408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163440" y="-281880"/>
            <a:ext cx="7888320" cy="74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00"/>
                </a:solidFill>
                <a:uFillTx/>
                <a:latin typeface="Arial"/>
              </a:rPr>
              <a:t>มาตรฐาน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ven Exclusivity : Certified Pre-owned Mercedes-Benz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3300"/>
                </a:solidFill>
                <a:latin typeface="Times New Roman"/>
              </a:rPr>
              <a:t>มีการรับประกัน </a:t>
            </a:r>
            <a:r>
              <a:rPr b="0" lang="th-TH" sz="2800" spc="-1" strike="noStrike">
                <a:solidFill>
                  <a:srgbClr val="ff3300"/>
                </a:solidFill>
                <a:latin typeface="Times New Roman"/>
              </a:rPr>
              <a:t>1 </a:t>
            </a:r>
            <a:r>
              <a:rPr b="0" lang="th-TH" sz="2800" spc="-1" strike="noStrike">
                <a:solidFill>
                  <a:srgbClr val="ff3300"/>
                </a:solidFill>
                <a:latin typeface="Times New Roman"/>
              </a:rPr>
              <a:t>ปี หรือ </a:t>
            </a:r>
            <a:r>
              <a:rPr b="0" lang="th-TH" sz="2800" spc="-1" strike="noStrike">
                <a:solidFill>
                  <a:srgbClr val="ff3300"/>
                </a:solidFill>
                <a:latin typeface="Times New Roman"/>
              </a:rPr>
              <a:t>20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th-TH" sz="2800" spc="-1" strike="noStrike">
                <a:solidFill>
                  <a:srgbClr val="ff3300"/>
                </a:solidFill>
                <a:latin typeface="Times New Roman"/>
              </a:rPr>
              <a:t>000</a:t>
            </a:r>
            <a:r>
              <a:rPr b="0" lang="th-TH" sz="2800" spc="-1" strike="noStrike">
                <a:solidFill>
                  <a:srgbClr val="ff3300"/>
                </a:solidFill>
                <a:latin typeface="Times New Roman"/>
              </a:rPr>
              <a:t>ก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รับประกันสูงสุดถึง </a:t>
            </a: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2 </a:t>
            </a: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ปี </a:t>
            </a: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40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000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ff3300"/>
                </a:solidFill>
                <a:latin typeface="Arial"/>
              </a:rPr>
              <a:t>บริการช่วยเหลือฉุกเฉินตลอด</a:t>
            </a:r>
            <a:r>
              <a:rPr b="0" lang="th-TH" sz="2400" spc="-1" strike="noStrike">
                <a:solidFill>
                  <a:srgbClr val="ff3300"/>
                </a:solidFill>
                <a:latin typeface="Arial"/>
              </a:rPr>
              <a:t>24</a:t>
            </a:r>
            <a:r>
              <a:rPr b="0" lang="th-TH" sz="2400" spc="-1" strike="noStrike">
                <a:solidFill>
                  <a:srgbClr val="ff3300"/>
                </a:solidFill>
                <a:latin typeface="Arial"/>
              </a:rPr>
              <a:t>ช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Mercedes-Benz Star Assis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cs typeface="AngsanaUPC"/>
              </a:rPr>
              <a:t>ผ่านการตรวจสอบ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UPC"/>
              </a:rPr>
              <a:t>Multi-Point Vehicle Che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ngsanaUPC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cs typeface="AngsanaUPC"/>
              </a:rPr>
              <a:t>ตรงตามมาตรฐานขอ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ngsanaUPC"/>
              </a:rPr>
              <a:t>Mercedes-Ben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รถยนต์ได้รับการตรวจสอบตามมาตรฐานขอ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rcedes-Benz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รถยนต์ไม่เคยประสบอุบัติเหตุรุนแร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ไม่เคยประสบอุบัติเหตุรุนแรงใด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อายุการใช้งานของรถยนต์ไม่เกิ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ปี มีเลขไมล์ไม่เกิ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150,000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ก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อายุการใช้งานของรถยนต์น้อยกว่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ปีนับจากวันเริ่มต้น วารันตีรถใหม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เลขไมล์บนแผงหน้าปัดเป็นเลขไมล์จริง และผ่านการใช้งานมาน้อยกว่า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PMingLiU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5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PMingLiU"/>
              </a:rPr>
              <a:t>0,000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กม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PMingLiU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 u="sng">
                <a:solidFill>
                  <a:srgbClr val="000000"/>
                </a:solidFill>
                <a:uFillTx/>
                <a:latin typeface="Arial"/>
              </a:rPr>
              <a:t>อื่น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รถยนต์ที่เข้าร่วม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MS PGothic"/>
              </a:rPr>
              <a:t>ProvenExclusivity</a:t>
            </a:r>
            <a:r>
              <a:rPr b="0" lang="th-TH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จะต้องเป็นรถที่ผ่านการจัดจำหน่ายโดยเมอร์เซเดส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  <a:ea typeface="Arial"/>
              </a:rPr>
              <a:t>-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เบนซ์ประเทศไทยเท่านั้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อยู่ในสภาพพร้อมจำหน่าย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สะอาด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สตาร์ทติด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ไม่มีข้อความ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Arial"/>
                <a:ea typeface="Arial"/>
              </a:rPr>
              <a:t>malfunction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ขึ้นแสดงที่หน้าปัด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น้ำมันครึ่งถั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รถยนต์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MS PGothic"/>
              </a:rPr>
              <a:t>ProvenExclusivity</a:t>
            </a:r>
            <a:r>
              <a:rPr b="0" lang="th-TH" sz="1400" spc="-1" strike="noStrike">
                <a:solidFill>
                  <a:srgbClr val="ff3300"/>
                </a:solidFill>
                <a:latin typeface="Arial"/>
                <a:ea typeface="MS PGothic"/>
              </a:rPr>
              <a:t> 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ที่จัดแสดง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ต้องติดป้ายราคา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และแผ่นป้ายทะเบียน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MS PGothic"/>
              </a:rPr>
              <a:t>,</a:t>
            </a:r>
            <a:r>
              <a:rPr b="0" lang="th-TH" sz="1800" spc="-1" strike="noStrike">
                <a:solidFill>
                  <a:srgbClr val="ff3300"/>
                </a:solidFill>
                <a:latin typeface="Arial"/>
              </a:rPr>
              <a:t>ใบเสร็จรับเงิน ตามมาตรฐานที่กำหน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667640" y="115920"/>
            <a:ext cx="132408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-420120" y="4508640"/>
            <a:ext cx="5601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1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)</a:t>
            </a: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ใบราคา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(Price tag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รายละเอียดและรูปแบบตรงตามที่กำหนดตามมาตรฐ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ติดไว้ที่กระจกด้านหน้าฝั่งผู้โดยสา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MB_368"/>
          <p:cNvPicPr/>
          <p:nvPr/>
        </p:nvPicPr>
        <p:blipFill>
          <a:blip r:embed="rId1"/>
          <a:stretch/>
        </p:blipFill>
        <p:spPr>
          <a:xfrm>
            <a:off x="611280" y="1773360"/>
            <a:ext cx="3743280" cy="2066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395280" y="5661000"/>
            <a:ext cx="3816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3)</a:t>
            </a: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ป้ายทะเบียน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(registration pl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รายละเอียด</a:t>
            </a:r>
            <a:r>
              <a:rPr b="0" lang="en-US" sz="2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สี และรูปแบบตรงตามที่กำหน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ติดที่ด้านหน้าและหลังของรถยนต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8" descr="MB_355"/>
          <p:cNvPicPr/>
          <p:nvPr/>
        </p:nvPicPr>
        <p:blipFill>
          <a:blip r:embed="rId2"/>
          <a:stretch/>
        </p:blipFill>
        <p:spPr>
          <a:xfrm>
            <a:off x="5292720" y="404640"/>
            <a:ext cx="3095640" cy="18669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9"/>
          <p:cNvSpPr/>
          <p:nvPr/>
        </p:nvSpPr>
        <p:spPr>
          <a:xfrm>
            <a:off x="3776400" y="4508640"/>
            <a:ext cx="5593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2)</a:t>
            </a: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ป้ายวงกลม สูญญากา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imes New Roman"/>
              </a:rPr>
              <a:t>รายละเอียดและรูปแบบตรงตามที่กำหนดตามมาตรฐ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ติดไว้ที่กระจกด้านหน้าฝั่งผู้โดยสา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3825000" y="5675400"/>
            <a:ext cx="5601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4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)</a:t>
            </a:r>
            <a:r>
              <a:rPr b="1" lang="th-TH" sz="2400" spc="-1" strike="noStrike" u="sng">
                <a:solidFill>
                  <a:srgbClr val="000000"/>
                </a:solidFill>
                <a:uFillTx/>
                <a:latin typeface="Angsana New"/>
              </a:rPr>
              <a:t>แผ่นคล้องกระจกมองหลัง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gsana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รายละเอียดและรูปแบบตรงตามที่กำหนดตามมาตรฐ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ngsana New"/>
              </a:rPr>
              <a:t>ติดไว้ที่กระจกมองหลั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1" descr="MB_421"/>
          <p:cNvPicPr/>
          <p:nvPr/>
        </p:nvPicPr>
        <p:blipFill>
          <a:blip r:embed="rId3"/>
          <a:stretch/>
        </p:blipFill>
        <p:spPr>
          <a:xfrm>
            <a:off x="6948360" y="2349360"/>
            <a:ext cx="1451160" cy="2175120"/>
          </a:xfrm>
          <a:prstGeom prst="rect">
            <a:avLst/>
          </a:prstGeom>
          <a:ln w="0">
            <a:noFill/>
          </a:ln>
        </p:spPr>
      </p:pic>
      <p:sp>
        <p:nvSpPr>
          <p:cNvPr id="59" name="Oval 13"/>
          <p:cNvSpPr/>
          <p:nvPr/>
        </p:nvSpPr>
        <p:spPr>
          <a:xfrm>
            <a:off x="3348000" y="1422360"/>
            <a:ext cx="289080" cy="28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2700360" y="1413000"/>
            <a:ext cx="28908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3922560" y="3429000"/>
            <a:ext cx="289080" cy="28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2050920" y="1413000"/>
            <a:ext cx="28908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7"/>
          <p:cNvSpPr/>
          <p:nvPr/>
        </p:nvSpPr>
        <p:spPr>
          <a:xfrm flipV="1">
            <a:off x="2916360" y="1699920"/>
            <a:ext cx="431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8"/>
          <p:cNvSpPr/>
          <p:nvPr/>
        </p:nvSpPr>
        <p:spPr>
          <a:xfrm flipV="1">
            <a:off x="2700360" y="169992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3924360" y="321300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0"/>
          <p:cNvSpPr/>
          <p:nvPr/>
        </p:nvSpPr>
        <p:spPr>
          <a:xfrm flipH="1" flipV="1">
            <a:off x="2195280" y="1699920"/>
            <a:ext cx="215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199080" y="189000"/>
            <a:ext cx="405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S for ProvenExclus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2" descr="MB_399"/>
          <p:cNvPicPr/>
          <p:nvPr/>
        </p:nvPicPr>
        <p:blipFill>
          <a:blip r:embed="rId4"/>
          <a:stretch/>
        </p:blipFill>
        <p:spPr>
          <a:xfrm>
            <a:off x="5292720" y="2349360"/>
            <a:ext cx="1366920" cy="2159280"/>
          </a:xfrm>
          <a:prstGeom prst="rect">
            <a:avLst/>
          </a:prstGeom>
          <a:ln w="0">
            <a:noFill/>
          </a:ln>
        </p:spPr>
      </p:pic>
      <p:sp>
        <p:nvSpPr>
          <p:cNvPr id="69" name="Oval 14"/>
          <p:cNvSpPr/>
          <p:nvPr/>
        </p:nvSpPr>
        <p:spPr>
          <a:xfrm>
            <a:off x="8315280" y="404640"/>
            <a:ext cx="289080" cy="28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13"/>
          <p:cNvSpPr/>
          <p:nvPr/>
        </p:nvSpPr>
        <p:spPr>
          <a:xfrm>
            <a:off x="7674120" y="1422360"/>
            <a:ext cx="288720" cy="28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15"/>
          <p:cNvSpPr/>
          <p:nvPr/>
        </p:nvSpPr>
        <p:spPr>
          <a:xfrm>
            <a:off x="8170920" y="3381480"/>
            <a:ext cx="28872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16"/>
          <p:cNvSpPr/>
          <p:nvPr/>
        </p:nvSpPr>
        <p:spPr>
          <a:xfrm>
            <a:off x="5830920" y="2421000"/>
            <a:ext cx="28872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14"/>
          <p:cNvGrpSpPr/>
          <p:nvPr/>
        </p:nvGrpSpPr>
        <p:grpSpPr>
          <a:xfrm>
            <a:off x="304920" y="2209680"/>
            <a:ext cx="8496360" cy="2971800"/>
            <a:chOff x="304920" y="2209680"/>
            <a:chExt cx="8496360" cy="2971800"/>
          </a:xfrm>
        </p:grpSpPr>
        <p:pic>
          <p:nvPicPr>
            <p:cNvPr id="74" name="Picture 2" descr=""/>
            <p:cNvPicPr/>
            <p:nvPr/>
          </p:nvPicPr>
          <p:blipFill>
            <a:blip r:embed="rId1"/>
            <a:srcRect l="0" t="0" r="0" b="877"/>
            <a:stretch/>
          </p:blipFill>
          <p:spPr>
            <a:xfrm>
              <a:off x="380880" y="2209680"/>
              <a:ext cx="2032200" cy="28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3" descr=""/>
            <p:cNvPicPr/>
            <p:nvPr/>
          </p:nvPicPr>
          <p:blipFill>
            <a:blip r:embed="rId2"/>
            <a:srcRect l="0" t="0" r="0" b="2992"/>
            <a:stretch/>
          </p:blipFill>
          <p:spPr>
            <a:xfrm>
              <a:off x="2438280" y="2209680"/>
              <a:ext cx="2116080" cy="288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"/>
            <p:cNvPicPr/>
            <p:nvPr/>
          </p:nvPicPr>
          <p:blipFill>
            <a:blip r:embed="rId3"/>
            <a:srcRect l="0" t="0" r="0" b="2568"/>
            <a:stretch/>
          </p:blipFill>
          <p:spPr>
            <a:xfrm>
              <a:off x="4579920" y="2209680"/>
              <a:ext cx="2125800" cy="28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6" descr=""/>
            <p:cNvPicPr/>
            <p:nvPr/>
          </p:nvPicPr>
          <p:blipFill>
            <a:blip r:embed="rId4"/>
            <a:stretch/>
          </p:blipFill>
          <p:spPr>
            <a:xfrm>
              <a:off x="6705720" y="2362320"/>
              <a:ext cx="2095560" cy="28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Rectangle 7"/>
            <p:cNvSpPr/>
            <p:nvPr/>
          </p:nvSpPr>
          <p:spPr>
            <a:xfrm>
              <a:off x="304920" y="2209680"/>
              <a:ext cx="8458200" cy="2971800"/>
            </a:xfrm>
            <a:prstGeom prst="rect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Picture 9" descr="iD1 Brand Mark 4C"/>
            <p:cNvPicPr/>
            <p:nvPr/>
          </p:nvPicPr>
          <p:blipFill>
            <a:blip r:embed="rId5">
              <a:lum bright="12000"/>
            </a:blip>
            <a:stretch/>
          </p:blipFill>
          <p:spPr>
            <a:xfrm>
              <a:off x="7020000" y="2948040"/>
              <a:ext cx="228600" cy="1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11" descr="iD1 Brand Mark 4C"/>
            <p:cNvPicPr/>
            <p:nvPr/>
          </p:nvPicPr>
          <p:blipFill>
            <a:blip r:embed="rId6">
              <a:lum bright="12000"/>
            </a:blip>
            <a:stretch/>
          </p:blipFill>
          <p:spPr>
            <a:xfrm>
              <a:off x="7524720" y="2948040"/>
              <a:ext cx="228600" cy="1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Rectangle 8"/>
            <p:cNvSpPr/>
            <p:nvPr/>
          </p:nvSpPr>
          <p:spPr>
            <a:xfrm>
              <a:off x="380880" y="2209680"/>
              <a:ext cx="8382240" cy="28958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Rectangle 15"/>
          <p:cNvSpPr/>
          <p:nvPr/>
        </p:nvSpPr>
        <p:spPr>
          <a:xfrm>
            <a:off x="6477120" y="2286000"/>
            <a:ext cx="3045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4419720" y="2286000"/>
            <a:ext cx="3045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8"/>
          <p:cNvSpPr/>
          <p:nvPr/>
        </p:nvSpPr>
        <p:spPr>
          <a:xfrm>
            <a:off x="2743200" y="70020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poAMed"/>
              </a:rPr>
              <a:t>ProvenExclusivity Showroom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9" descr="iD1 Brand Mark 4C"/>
          <p:cNvPicPr/>
          <p:nvPr/>
        </p:nvPicPr>
        <p:blipFill>
          <a:blip r:embed="rId7"/>
          <a:stretch/>
        </p:blipFill>
        <p:spPr>
          <a:xfrm>
            <a:off x="7848720" y="380880"/>
            <a:ext cx="914400" cy="7016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20"/>
          <p:cNvSpPr/>
          <p:nvPr/>
        </p:nvSpPr>
        <p:spPr>
          <a:xfrm>
            <a:off x="7772400" y="2362320"/>
            <a:ext cx="1219320" cy="685800"/>
          </a:xfrm>
          <a:prstGeom prst="wedgeRectCallout">
            <a:avLst>
              <a:gd name="adj1" fmla="val -45310"/>
              <a:gd name="adj2" fmla="val 6782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poAMed"/>
              </a:rPr>
              <a:t>Pre-own Vehi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8"/>
          <a:stretch/>
        </p:blipFill>
        <p:spPr>
          <a:xfrm>
            <a:off x="7596360" y="333360"/>
            <a:ext cx="1366560" cy="930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9"/>
          <a:stretch/>
        </p:blipFill>
        <p:spPr>
          <a:xfrm>
            <a:off x="6915240" y="2897280"/>
            <a:ext cx="436320" cy="296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10"/>
          <a:stretch/>
        </p:blipFill>
        <p:spPr>
          <a:xfrm>
            <a:off x="7494480" y="2935440"/>
            <a:ext cx="289080" cy="1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304920" y="2286000"/>
            <a:ext cx="8458200" cy="2971800"/>
            <a:chOff x="304920" y="2286000"/>
            <a:chExt cx="8458200" cy="2971800"/>
          </a:xfrm>
        </p:grpSpPr>
        <p:pic>
          <p:nvPicPr>
            <p:cNvPr id="91" name="Picture 3" descr=""/>
            <p:cNvPicPr/>
            <p:nvPr/>
          </p:nvPicPr>
          <p:blipFill>
            <a:blip r:embed="rId1"/>
            <a:stretch/>
          </p:blipFill>
          <p:spPr>
            <a:xfrm>
              <a:off x="6718320" y="2286000"/>
              <a:ext cx="204480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" descr=""/>
            <p:cNvPicPr/>
            <p:nvPr/>
          </p:nvPicPr>
          <p:blipFill>
            <a:blip r:embed="rId2"/>
            <a:srcRect l="0" t="0" r="0" b="877"/>
            <a:stretch/>
          </p:blipFill>
          <p:spPr>
            <a:xfrm>
              <a:off x="380880" y="2286000"/>
              <a:ext cx="2032200" cy="28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5" descr=""/>
            <p:cNvPicPr/>
            <p:nvPr/>
          </p:nvPicPr>
          <p:blipFill>
            <a:blip r:embed="rId3"/>
            <a:srcRect l="0" t="0" r="0" b="2992"/>
            <a:stretch/>
          </p:blipFill>
          <p:spPr>
            <a:xfrm>
              <a:off x="2438280" y="2286000"/>
              <a:ext cx="2116080" cy="288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6" descr=""/>
            <p:cNvPicPr/>
            <p:nvPr/>
          </p:nvPicPr>
          <p:blipFill>
            <a:blip r:embed="rId4"/>
            <a:srcRect l="0" t="0" r="0" b="2568"/>
            <a:stretch/>
          </p:blipFill>
          <p:spPr>
            <a:xfrm>
              <a:off x="4579920" y="2286000"/>
              <a:ext cx="212580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7"/>
            <p:cNvSpPr/>
            <p:nvPr/>
          </p:nvSpPr>
          <p:spPr>
            <a:xfrm>
              <a:off x="304920" y="2286000"/>
              <a:ext cx="8458200" cy="2971800"/>
            </a:xfrm>
            <a:prstGeom prst="rect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8"/>
            <p:cNvSpPr/>
            <p:nvPr/>
          </p:nvSpPr>
          <p:spPr>
            <a:xfrm>
              <a:off x="380880" y="2286000"/>
              <a:ext cx="8382240" cy="289548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9"/>
            <p:cNvSpPr/>
            <p:nvPr/>
          </p:nvSpPr>
          <p:spPr>
            <a:xfrm>
              <a:off x="6477120" y="2361960"/>
              <a:ext cx="3045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10"/>
            <p:cNvSpPr/>
            <p:nvPr/>
          </p:nvSpPr>
          <p:spPr>
            <a:xfrm>
              <a:off x="4419720" y="2361960"/>
              <a:ext cx="30456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Text Box 11"/>
          <p:cNvSpPr/>
          <p:nvPr/>
        </p:nvSpPr>
        <p:spPr>
          <a:xfrm>
            <a:off x="1143000" y="78588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poAMed"/>
              </a:rPr>
              <a:t>Corporate Design Guidelines for DaimlerChrys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2" descr="iD1 Brand Mark 4C"/>
          <p:cNvPicPr/>
          <p:nvPr/>
        </p:nvPicPr>
        <p:blipFill>
          <a:blip r:embed="rId5"/>
          <a:stretch/>
        </p:blipFill>
        <p:spPr>
          <a:xfrm>
            <a:off x="7848720" y="380880"/>
            <a:ext cx="914400" cy="701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6"/>
          <a:stretch/>
        </p:blipFill>
        <p:spPr>
          <a:xfrm>
            <a:off x="7667640" y="333360"/>
            <a:ext cx="12254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026" descr=""/>
          <p:cNvPicPr/>
          <p:nvPr/>
        </p:nvPicPr>
        <p:blipFill>
          <a:blip r:embed="rId1"/>
          <a:stretch/>
        </p:blipFill>
        <p:spPr>
          <a:xfrm>
            <a:off x="2362320" y="0"/>
            <a:ext cx="483228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3670200" y="2031840"/>
            <a:ext cx="935280" cy="636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2484360" y="189000"/>
            <a:ext cx="935280" cy="636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4"/>
          <a:stretch/>
        </p:blipFill>
        <p:spPr>
          <a:xfrm rot="21292800">
            <a:off x="3455640" y="4768560"/>
            <a:ext cx="6843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5"/>
          <a:stretch/>
        </p:blipFill>
        <p:spPr>
          <a:xfrm>
            <a:off x="4586400" y="5148360"/>
            <a:ext cx="649080" cy="441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6"/>
          <a:stretch/>
        </p:blipFill>
        <p:spPr>
          <a:xfrm>
            <a:off x="5769000" y="5573880"/>
            <a:ext cx="50328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10:22:03Z</dcterms:created>
  <dc:creator>DaimlerChrysler</dc:creator>
  <dc:description/>
  <dc:language>en-US</dc:language>
  <cp:lastModifiedBy>Iamsuksaeng, Mongkol (118)</cp:lastModifiedBy>
  <cp:lastPrinted>2012-09-07T04:04:38Z</cp:lastPrinted>
  <dcterms:modified xsi:type="dcterms:W3CDTF">2014-01-27T04:03:28Z</dcterms:modified>
  <cp:revision>53</cp:revision>
  <dc:subject/>
  <dc:title>PowerPoint Presentation</dc:title>
</cp:coreProperties>
</file>